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D23A-DC23-4261-9EDA-4D302F3F3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1D9C-39C6-4192-BE72-921CA8AC7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089B-86D7-4496-9ACD-9871EF636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8B67-BFAD-4C03-80CA-DDADF7B8D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0924-0A1B-4E07-B702-B678A03F7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F168-EA00-40E7-9BD4-57CE26A8C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2967-3A34-4710-9AE6-7CC23C3B4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1FB7-A5A9-43FD-8E0C-CCFBE15CD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7F78-1472-499E-BCE3-2823F506B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60D4-821C-4E26-B106-0AD56FB1C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BDF7-BAAA-431A-BC52-325E51C67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82D1-BD6D-4EAA-ADEE-F8FD11832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3440-6305-42E9-BED6-5364648CB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1DFC-E9AA-4FFA-9FA4-5B18D43BC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0E97-0B5F-4FDC-B0BE-F106D1018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5591-C854-4741-81E4-21C9E2F89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384B-00AB-4914-A22B-5B70E09E1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5AA5-BD72-48CD-9BDB-74C2E3AB5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85F1-2202-4519-A1B3-6BAF0BA42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F762-EE86-4F9C-8962-B7F4618B9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B682-3F77-43F7-9052-78AE3CB17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2B60-3AD3-42E2-A6CD-A6944388E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ECC3-14D7-4B83-902F-035A8A306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F17D-C92A-44AF-833A-7833809FF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DDEE-BAA0-47E7-95B2-EEB6097FB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BBF9-10A1-4A12-BDB1-1518FA63B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7213-16EE-46D5-8C60-85D741E0E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9DE8-4B24-4148-974C-EC6C6520C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691F-ACA5-4C89-8ACA-B14B7B96C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08D4-8E6C-42FA-84F1-30F6313EC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BF36-5684-4880-8E68-07DF271FB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D592-87AE-463F-8673-275E55DAC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37C8-1322-4E9D-89C5-5F7987FF5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2C4C-F2D7-40A5-86B4-86207BC54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32B0-EBEC-42E8-BBF9-6A49BA9C1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5130-4E28-4DD0-B4BC-5BCA61CA0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6D4B-853F-48E6-BD07-0BD638C94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FCFE-71D2-4142-A769-F7B276F74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C808-E598-4D8D-AFED-4739C8FCA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8789-CAEE-4CC3-9E54-371B6B0A7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8596-E6D7-43F1-A3D1-EEE642333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C6E7-8846-469D-95E4-EC51DE6D1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8E20-CABA-4441-91FB-A5777C9F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24B5-28EB-42EE-AD6B-4A049675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2E0CF-9DDB-4F37-BD44-BFF970E0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0E64-E570-43D0-B85E-23A18314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D1B8-FBAB-4BBE-A44B-99F03B1C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5BD15-34EC-4B64-AECA-4BCBDB26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48C6-7FA0-40D8-BC35-088A7B8B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1220-645A-4DF8-8A32-6D2AEE91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ACC2-771D-4861-AF5A-945FDB2F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345C-1185-45EE-BCEF-0842120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8C8D0-F395-43F9-B287-E43DE62F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C05D-0686-4915-961A-06100028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C990-C4AA-4F43-AFEA-131F72A51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999920" y="5807160"/>
              <a:ext cx="91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lectronic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Structure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of Atoms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6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Electronic Structure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of Atoms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1th editio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; H. Eugene LeMay, Jr.;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nd Bruce E. Burste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6320" y="548640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John D. Bookstaver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t. Charles Community College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ttleville, MO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an atom can only occupy certain orbits (corresponding to certain energies)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1" name="Picture 5" descr="06_13"/>
          <p:cNvPicPr/>
          <p:nvPr/>
        </p:nvPicPr>
        <p:blipFill>
          <a:blip r:embed="rId1"/>
          <a:srcRect l="0" t="0" r="0" b="3703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permitted orbits have specific, “allowed” energies; these energies will not be radiated from the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5" name="Picture 4" descr="06_13"/>
          <p:cNvPicPr/>
          <p:nvPr/>
        </p:nvPicPr>
        <p:blipFill>
          <a:blip r:embed="rId1"/>
          <a:srcRect l="0" t="0" r="0" b="3703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80920" y="1980720"/>
            <a:ext cx="5410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nergy is only absorbed or emitted in such a way as to move an electron from one “allowed” energy state to another; the energy is defined by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9" name="Picture 4" descr="06_13"/>
          <p:cNvPicPr/>
          <p:nvPr/>
        </p:nvPicPr>
        <p:blipFill>
          <a:blip r:embed="rId1"/>
          <a:srcRect l="0" t="0" r="0" b="3703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52680" y="1752120"/>
            <a:ext cx="5639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energy absorbed or emitted from the process of electron promotion or demotion can be calculated by the equatio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3" name="Picture 4" descr="06_13"/>
          <p:cNvPicPr/>
          <p:nvPr/>
        </p:nvPicPr>
        <p:blipFill>
          <a:blip r:embed="rId1"/>
          <a:srcRect l="0" t="0" r="0" b="3703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21"/>
          <p:cNvGrpSpPr/>
          <p:nvPr/>
        </p:nvGrpSpPr>
        <p:grpSpPr>
          <a:xfrm>
            <a:off x="4061880" y="3444840"/>
            <a:ext cx="3483360" cy="875880"/>
            <a:chOff x="4061880" y="3444840"/>
            <a:chExt cx="3483360" cy="875880"/>
          </a:xfrm>
        </p:grpSpPr>
        <p:sp>
          <p:nvSpPr>
            <p:cNvPr id="105" name="Rectangle 5"/>
            <p:cNvSpPr/>
            <p:nvPr/>
          </p:nvSpPr>
          <p:spPr>
            <a:xfrm>
              <a:off x="4061880" y="3611520"/>
              <a:ext cx="1750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5608800" y="3470400"/>
              <a:ext cx="193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(          )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5851800" y="3444840"/>
              <a:ext cx="4975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i="1" lang="en-US" sz="2400" spc="-1" strike="noStrike" baseline="-25000">
                  <a:solidFill>
                    <a:srgbClr val="c82e32"/>
                  </a:solidFill>
                  <a:latin typeface="Arial"/>
                </a:rPr>
                <a:t>f</a:t>
              </a:r>
              <a:r>
                <a:rPr b="0" i="1" lang="en-US" sz="2400" spc="-1" strike="noStrike" baseline="30000">
                  <a:solidFill>
                    <a:srgbClr val="c82e3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5891040" y="3867120"/>
              <a:ext cx="4194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09" name="Group 13"/>
            <p:cNvGrpSpPr/>
            <p:nvPr/>
          </p:nvGrpSpPr>
          <p:grpSpPr>
            <a:xfrm>
              <a:off x="6797880" y="3444840"/>
              <a:ext cx="488520" cy="875880"/>
              <a:chOff x="6797880" y="3444840"/>
              <a:chExt cx="488520" cy="875880"/>
            </a:xfrm>
          </p:grpSpPr>
          <p:sp>
            <p:nvSpPr>
              <p:cNvPr id="110" name="Rectangle 14"/>
              <p:cNvSpPr/>
              <p:nvPr/>
            </p:nvSpPr>
            <p:spPr>
              <a:xfrm>
                <a:off x="6797880" y="3444840"/>
                <a:ext cx="4885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i</a:t>
                </a:r>
                <a:r>
                  <a:rPr b="0" i="1" lang="en-US" sz="24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11" name="Line 15"/>
              <p:cNvSpPr/>
              <p:nvPr/>
            </p:nvSpPr>
            <p:spPr>
              <a:xfrm>
                <a:off x="6832440" y="3867120"/>
                <a:ext cx="418680" cy="0"/>
              </a:xfrm>
              <a:prstGeom prst="line">
                <a:avLst/>
              </a:prstGeom>
              <a:ln w="2556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  <p:sp>
          <p:nvSpPr>
            <p:cNvPr id="112" name="Rectangle 16"/>
            <p:cNvSpPr/>
            <p:nvPr/>
          </p:nvSpPr>
          <p:spPr>
            <a:xfrm>
              <a:off x="6438960" y="35751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113" name="Rectangle 20"/>
          <p:cNvSpPr/>
          <p:nvPr/>
        </p:nvSpPr>
        <p:spPr>
          <a:xfrm>
            <a:off x="3352680" y="4371840"/>
            <a:ext cx="54864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the Rydberg constant, 2.18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,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initial and final energy levels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Wave Nature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uis de Broglie posited that if light can have material properties, matter should exhibit wave propert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e demonstrated that the relationship between mass and wavelength wa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3806280" y="4648320"/>
            <a:ext cx="1530360" cy="1068840"/>
            <a:chOff x="3806280" y="4648320"/>
            <a:chExt cx="1530360" cy="1068840"/>
          </a:xfrm>
        </p:grpSpPr>
        <p:sp>
          <p:nvSpPr>
            <p:cNvPr id="118" name="Rectangle 4"/>
            <p:cNvSpPr/>
            <p:nvPr/>
          </p:nvSpPr>
          <p:spPr>
            <a:xfrm>
              <a:off x="3806280" y="4943520"/>
              <a:ext cx="75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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19" name="Group 7"/>
            <p:cNvGrpSpPr/>
            <p:nvPr/>
          </p:nvGrpSpPr>
          <p:grpSpPr>
            <a:xfrm>
              <a:off x="4574880" y="4648320"/>
              <a:ext cx="761760" cy="1068840"/>
              <a:chOff x="4574880" y="4648320"/>
              <a:chExt cx="761760" cy="1068840"/>
            </a:xfrm>
          </p:grpSpPr>
          <p:sp>
            <p:nvSpPr>
              <p:cNvPr id="120" name="Rectangle 5"/>
              <p:cNvSpPr/>
              <p:nvPr/>
            </p:nvSpPr>
            <p:spPr>
              <a:xfrm>
                <a:off x="4580640" y="4648320"/>
                <a:ext cx="7232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mv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21" name="Line 6"/>
              <p:cNvSpPr/>
              <p:nvPr/>
            </p:nvSpPr>
            <p:spPr>
              <a:xfrm>
                <a:off x="4574880" y="5213520"/>
                <a:ext cx="7617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Uncertainty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isenberg showed that the more precisely the momentum of a particle is known, the less precisely is its position know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many cases, our uncertainty of the whereabouts of an electron is greater than the size of the atom itself!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2886120" y="3378240"/>
            <a:ext cx="3335400" cy="1068840"/>
            <a:chOff x="2886120" y="3378240"/>
            <a:chExt cx="3335400" cy="1068840"/>
          </a:xfrm>
        </p:grpSpPr>
        <p:sp>
          <p:nvSpPr>
            <p:cNvPr id="126" name="Rectangle 4"/>
            <p:cNvSpPr/>
            <p:nvPr/>
          </p:nvSpPr>
          <p:spPr>
            <a:xfrm>
              <a:off x="2886120" y="3594240"/>
              <a:ext cx="251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mv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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27" name="Group 7"/>
            <p:cNvGrpSpPr/>
            <p:nvPr/>
          </p:nvGrpSpPr>
          <p:grpSpPr>
            <a:xfrm>
              <a:off x="5591160" y="3378240"/>
              <a:ext cx="630360" cy="1068840"/>
              <a:chOff x="5591160" y="3378240"/>
              <a:chExt cx="630360" cy="1068840"/>
            </a:xfrm>
          </p:grpSpPr>
          <p:sp>
            <p:nvSpPr>
              <p:cNvPr id="128" name="Rectangle 5"/>
              <p:cNvSpPr/>
              <p:nvPr/>
            </p:nvSpPr>
            <p:spPr>
              <a:xfrm>
                <a:off x="5591160" y="3378240"/>
                <a:ext cx="630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i="1" lang="en-US" sz="32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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29" name="Line 6"/>
              <p:cNvSpPr/>
              <p:nvPr/>
            </p:nvSpPr>
            <p:spPr>
              <a:xfrm>
                <a:off x="5639040" y="3917880"/>
                <a:ext cx="5331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rwin Schrödinger developed a mathematical treatment into which both the wave and particle nature of matter could be incorporat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known as 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3" name="Picture 5" descr="06_16"/>
          <p:cNvPicPr/>
          <p:nvPr/>
        </p:nvPicPr>
        <p:blipFill>
          <a:blip r:embed="rId1"/>
          <a:srcRect l="0" t="0" r="0" b="5374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6" name="Picture 4" descr="06_16"/>
          <p:cNvPicPr/>
          <p:nvPr/>
        </p:nvPicPr>
        <p:blipFill>
          <a:blip r:embed="rId1"/>
          <a:srcRect l="0" t="0" r="0" b="5374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equation is designated with a lower case Greek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s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quare of the wave equation,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gives a probability density map of where an electron has a certain statistical likelihood of being at any given instant in ti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Numb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lving the wave equation gives a set of wave functions, or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orbital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and their corresponding energ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ach orbital describes a spatial distribution of electron density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n orbital is described by a set of three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quantum number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incipal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principal quantum number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describes the energy level on which the orbital resid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≥ 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o understand the electronic structure of atoms, one must understand the nature of electromagnetic radi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stance between corresponding points on adjacent waves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avelength 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8" name="Picture 5" descr="06_03a-c"/>
          <p:cNvPicPr/>
          <p:nvPr/>
        </p:nvPicPr>
        <p:blipFill>
          <a:blip r:embed="rId1"/>
          <a:srcRect l="0" t="0" r="73553" b="38460"/>
          <a:stretch/>
        </p:blipFill>
        <p:spPr>
          <a:xfrm>
            <a:off x="2933640" y="1752480"/>
            <a:ext cx="327672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quantum number defines the shape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0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 use letter designations to communicate the different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, therefore, the shapes and types of orbital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828800" y="2438280"/>
          <a:ext cx="5486400" cy="1143000"/>
        </p:xfrm>
        <a:graphic>
          <a:graphicData uri="http://schemas.openxmlformats.org/drawingml/2006/table">
            <a:tbl>
              <a:tblPr/>
              <a:tblGrid>
                <a:gridCol w="2851200"/>
                <a:gridCol w="644400"/>
                <a:gridCol w="646200"/>
                <a:gridCol w="698400"/>
                <a:gridCol w="6462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of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Type of orbita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magnetic quantum number describes the three-dimensional orientation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-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on any given energy level, there can be up to 1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, 3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5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7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etc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rbitals with the sam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m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hel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orbital types within a shell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ubshell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6" name="Picture 8" descr="06_T02"/>
          <p:cNvPicPr/>
          <p:nvPr/>
        </p:nvPicPr>
        <p:blipFill>
          <a:blip r:embed="rId1"/>
          <a:srcRect l="0" t="8891" r="0" b="8108"/>
          <a:stretch/>
        </p:blipFill>
        <p:spPr>
          <a:xfrm>
            <a:off x="1409760" y="3657600"/>
            <a:ext cx="632448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0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are spherical in shap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radius of the sphere increases with 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0" name="Picture 5" descr="06_19"/>
          <p:cNvPicPr/>
          <p:nvPr/>
        </p:nvPicPr>
        <p:blipFill>
          <a:blip r:embed="rId1"/>
          <a:srcRect l="0" t="0" r="0" b="3701"/>
          <a:stretch/>
        </p:blipFill>
        <p:spPr>
          <a:xfrm>
            <a:off x="609480" y="1828800"/>
            <a:ext cx="24148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 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bserving a graph of probabilities of finding an electron versus distance from the nucleus, we see that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posses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−1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node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or regions where there is 0 probability of finding an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4" name="Picture 6" descr="06_18"/>
          <p:cNvPicPr/>
          <p:nvPr/>
        </p:nvPicPr>
        <p:blipFill>
          <a:blip r:embed="rId1"/>
          <a:srcRect l="0" t="0" r="0" b="13131"/>
          <a:stretch/>
        </p:blipFill>
        <p:spPr>
          <a:xfrm>
            <a:off x="228600" y="1752480"/>
            <a:ext cx="4343400" cy="1670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06_21"/>
          <p:cNvPicPr/>
          <p:nvPr/>
        </p:nvPicPr>
        <p:blipFill>
          <a:blip r:embed="rId2"/>
          <a:srcRect l="0" t="0" r="0" b="7893"/>
          <a:stretch/>
        </p:blipFill>
        <p:spPr>
          <a:xfrm>
            <a:off x="0" y="3962520"/>
            <a:ext cx="4317840" cy="25034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"/>
          <p:cNvSpPr/>
          <p:nvPr/>
        </p:nvSpPr>
        <p:spPr>
          <a:xfrm>
            <a:off x="1447920" y="64008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1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have two lobes with a node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0" name="Picture 7" descr="06_22"/>
          <p:cNvPicPr/>
          <p:nvPr/>
        </p:nvPicPr>
        <p:blipFill>
          <a:blip r:embed="rId1"/>
          <a:srcRect l="0" t="0" r="0" b="19228"/>
          <a:stretch/>
        </p:blipFill>
        <p:spPr>
          <a:xfrm>
            <a:off x="1201680" y="4114800"/>
            <a:ext cx="6735960" cy="211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486040" y="175212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is 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ur of the fiv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have 4 lobes; the other resembles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with a doughnut around the cen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4" name="Picture 5" descr="06_23"/>
          <p:cNvPicPr/>
          <p:nvPr/>
        </p:nvPicPr>
        <p:blipFill>
          <a:blip r:embed="rId1"/>
          <a:srcRect l="0" t="0" r="0" b="3562"/>
          <a:stretch/>
        </p:blipFill>
        <p:spPr>
          <a:xfrm>
            <a:off x="457200" y="1981080"/>
            <a:ext cx="4952880" cy="356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 one-electron hydrogen atom, orbitals on the same energy level have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at is, they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8" name="Picture 5" descr="06_17"/>
          <p:cNvPicPr/>
          <p:nvPr/>
        </p:nvPicPr>
        <p:blipFill>
          <a:blip r:embed="rId1"/>
          <a:srcRect l="0" t="0" r="0" b="3705"/>
          <a:stretch/>
        </p:blipFill>
        <p:spPr>
          <a:xfrm>
            <a:off x="4981680" y="1981080"/>
            <a:ext cx="31417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number of electrons increases, though, so does the repulsion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n many-electron atoms, orbitals on the same energy level are no longer degene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2" name="Picture 5" descr="06_24"/>
          <p:cNvPicPr/>
          <p:nvPr/>
        </p:nvPicPr>
        <p:blipFill>
          <a:blip r:embed="rId1"/>
          <a:srcRect l="0" t="0" r="0" b="3702"/>
          <a:stretch/>
        </p:blipFill>
        <p:spPr>
          <a:xfrm>
            <a:off x="380880" y="1676520"/>
            <a:ext cx="38131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number of waves passing a given point per unit of time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waves traveling at the same velocity, the longer the wavelength, the smaller the frequenc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2" name="Picture 5" descr="06_04-01UNE6-1"/>
          <p:cNvPicPr/>
          <p:nvPr/>
        </p:nvPicPr>
        <p:blipFill>
          <a:blip r:embed="rId1"/>
          <a:srcRect l="0" t="0" r="0" b="5369"/>
          <a:stretch/>
        </p:blipFill>
        <p:spPr>
          <a:xfrm>
            <a:off x="380880" y="2928960"/>
            <a:ext cx="3810240" cy="210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e 1920s, it was discovered that two electrons in the same orbital do not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“spin” of an electron describes its magnetic field, which affects its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6" name="Picture 8" descr="06_27"/>
          <p:cNvPicPr/>
          <p:nvPr/>
        </p:nvPicPr>
        <p:blipFill>
          <a:blip r:embed="rId1"/>
          <a:srcRect l="0" t="0" r="0" b="6621"/>
          <a:stretch/>
        </p:blipFill>
        <p:spPr>
          <a:xfrm>
            <a:off x="4648320" y="2484360"/>
            <a:ext cx="4267080" cy="262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led to a fourth quantum number, the spin quantum number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pin quantum number has only 2 allowed values:  +1/2 and −1/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0" name="Picture 4" descr="06_25"/>
          <p:cNvPicPr/>
          <p:nvPr/>
        </p:nvPicPr>
        <p:blipFill>
          <a:blip r:embed="rId1"/>
          <a:srcRect l="0" t="0" r="0" b="3723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auli Exclusion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 two electrons in the same atom can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no two electrons in the same atom can have identical sets of quantum numb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4" name="Picture 4" descr="06_25"/>
          <p:cNvPicPr/>
          <p:nvPr/>
        </p:nvPicPr>
        <p:blipFill>
          <a:blip r:embed="rId1"/>
          <a:srcRect l="0" t="0" r="0" b="3723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8" name="Picture 7" descr="COEFF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2" name="Picture 5" descr="ORBITAL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superscript denoting the number of electrons in those orbitals.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6" name="Picture 5" descr="superscript"/>
          <p:cNvPicPr/>
          <p:nvPr/>
        </p:nvPicPr>
        <p:blipFill>
          <a:blip r:embed="rId1"/>
          <a:srcRect l="14000" t="28000" r="63008" b="54000"/>
          <a:stretch/>
        </p:blipFill>
        <p:spPr>
          <a:xfrm>
            <a:off x="1219320" y="3200400"/>
            <a:ext cx="116028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 Diagra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box in the diagram represents one orbita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lf-arrows represent th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rection of the arrow represents the relative spin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0" name="Picture 5" descr="06_28-01UN"/>
          <p:cNvPicPr/>
          <p:nvPr/>
        </p:nvPicPr>
        <p:blipFill>
          <a:blip r:embed="rId1"/>
          <a:srcRect l="0" t="0" r="0" b="6447"/>
          <a:stretch/>
        </p:blipFill>
        <p:spPr>
          <a:xfrm>
            <a:off x="5029200" y="2438280"/>
            <a:ext cx="2895480" cy="136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und’s Ru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degenerate orbitals, the lowest energy is attained when the number of electrons with the same spin is maximized.”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4" name="Picture 5" descr="06_28-05UN"/>
          <p:cNvPicPr/>
          <p:nvPr/>
        </p:nvPicPr>
        <p:blipFill>
          <a:blip r:embed="rId1"/>
          <a:srcRect l="0" t="0" r="0" b="11094"/>
          <a:stretch/>
        </p:blipFill>
        <p:spPr>
          <a:xfrm>
            <a:off x="685800" y="3351240"/>
            <a:ext cx="3809880" cy="122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fill orbitals in increasing order of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blocks on the periodic table (shaded in different colors in this chart) correspond to different types of orbital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8" name="Picture 5" descr="06_29"/>
          <p:cNvPicPr/>
          <p:nvPr/>
        </p:nvPicPr>
        <p:blipFill>
          <a:blip r:embed="rId1"/>
          <a:srcRect l="0" t="0" r="0" b="3739"/>
          <a:stretch/>
        </p:blipFill>
        <p:spPr>
          <a:xfrm>
            <a:off x="4648320" y="2638440"/>
            <a:ext cx="3809880" cy="26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me irregularities occur when there are enough electrons to half-fill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on a given row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2" name="Picture 10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magnetic Radi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32763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l electromagnetic radiation travels at the same velocity:  the speed of light (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3.00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/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6" name="Picture 5" descr="06_04"/>
          <p:cNvPicPr/>
          <p:nvPr/>
        </p:nvPicPr>
        <p:blipFill>
          <a:blip r:embed="rId1"/>
          <a:srcRect l="0" t="0" r="0" b="3847"/>
          <a:stretch/>
        </p:blipFill>
        <p:spPr>
          <a:xfrm>
            <a:off x="4114800" y="1600200"/>
            <a:ext cx="5029200" cy="293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instance, the electron configuration for copper i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her than the expected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6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occurs because the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are very close in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anomalies occur i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-block atoms, as well.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0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nature of light does not explain how an object can glow when its temperature incre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ax Planck explained it by assuming that energy comes in packets called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quant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0" name="Picture 5" descr="06_05"/>
          <p:cNvPicPr/>
          <p:nvPr/>
        </p:nvPicPr>
        <p:blipFill>
          <a:blip r:embed="rId1"/>
          <a:srcRect l="0" t="0" r="0" b="3706"/>
          <a:stretch/>
        </p:blipFill>
        <p:spPr>
          <a:xfrm>
            <a:off x="519120" y="1981080"/>
            <a:ext cx="36561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instein used this assumption to explain the photoelectric effec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 concluded that energy is proportional to frequenc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Planck’s constant, 6.626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−3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-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4" name="Picture 5" descr="06_07ab"/>
          <p:cNvPicPr/>
          <p:nvPr/>
        </p:nvPicPr>
        <p:blipFill>
          <a:blip r:embed="rId1"/>
          <a:srcRect l="0" t="0" r="0" b="8340"/>
          <a:stretch/>
        </p:blipFill>
        <p:spPr>
          <a:xfrm>
            <a:off x="4876920" y="2365200"/>
            <a:ext cx="403848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f one knows the wavelength of light, one can calculate the energy in one photon, or packet, of that light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8" name="Picture 5" descr="06_09"/>
          <p:cNvPicPr/>
          <p:nvPr/>
        </p:nvPicPr>
        <p:blipFill>
          <a:blip r:embed="rId1"/>
          <a:srcRect l="0" t="0" r="0" b="3701"/>
          <a:stretch/>
        </p:blipFill>
        <p:spPr>
          <a:xfrm>
            <a:off x="5105520" y="1600200"/>
            <a:ext cx="29304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other mystery in the early 20th century involved the emission spectra observed from energy emitted by atoms and molecu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82" name="Picture 5" descr="06_11b"/>
          <p:cNvPicPr/>
          <p:nvPr/>
        </p:nvPicPr>
        <p:blipFill>
          <a:blip r:embed="rId1"/>
          <a:srcRect l="0" t="0" r="0" b="3704"/>
          <a:stretch/>
        </p:blipFill>
        <p:spPr>
          <a:xfrm>
            <a:off x="457200" y="1828800"/>
            <a:ext cx="323856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toms and molecules one does not observe a continuous spectrum, as one gets from a white light sour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ly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ine spectru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discrete wavelengths is observ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86" name="Picture 6" descr="06_10"/>
          <p:cNvPicPr/>
          <p:nvPr/>
        </p:nvPicPr>
        <p:blipFill>
          <a:blip r:embed="rId1"/>
          <a:srcRect l="0" t="0" r="0" b="3853"/>
          <a:stretch/>
        </p:blipFill>
        <p:spPr>
          <a:xfrm>
            <a:off x="4952880" y="1781280"/>
            <a:ext cx="3048120" cy="242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06_12abedit"/>
          <p:cNvPicPr/>
          <p:nvPr/>
        </p:nvPicPr>
        <p:blipFill>
          <a:blip r:embed="rId2"/>
          <a:stretch/>
        </p:blipFill>
        <p:spPr>
          <a:xfrm>
            <a:off x="4648320" y="4336920"/>
            <a:ext cx="4190760" cy="140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1:01:38Z</dcterms:created>
  <dc:creator>John Bookstaver</dc:creator>
  <dc:description/>
  <dc:language>en-US</dc:language>
  <cp:lastModifiedBy>Windows User</cp:lastModifiedBy>
  <dcterms:modified xsi:type="dcterms:W3CDTF">2012-03-06T17:00:19Z</dcterms:modified>
  <cp:revision>73</cp:revision>
  <dc:subject/>
  <dc:title>Chapter 6 Electronic Structure of Atoms</dc:title>
</cp:coreProperties>
</file>